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9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2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AB244-E467-4D3F-8678-117ED592D902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960E7-8751-4CA4-80BA-1B36306570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5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03120"/>
            <a:ext cx="8226360" cy="14212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2759760"/>
            <a:ext cx="8226360" cy="14212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B49EE-7B3D-4C44-A069-337C661FA6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5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203120"/>
            <a:ext cx="4014360" cy="14212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440" y="1203120"/>
            <a:ext cx="4014360" cy="14212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2759760"/>
            <a:ext cx="4014360" cy="14212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2440" y="2759760"/>
            <a:ext cx="4014360" cy="14212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8DC68-E8C8-4158-93EC-AA888C3347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5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203120"/>
            <a:ext cx="2648520" cy="14212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8200" y="1203120"/>
            <a:ext cx="2648520" cy="14212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9560" y="1203120"/>
            <a:ext cx="2648520" cy="14212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2759760"/>
            <a:ext cx="2648520" cy="14212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8200" y="2759760"/>
            <a:ext cx="2648520" cy="14212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9560" y="2759760"/>
            <a:ext cx="2648520" cy="14212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AB7F1-2596-4A5F-B550-2ADC9B7B30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5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203120"/>
            <a:ext cx="8226360" cy="29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01806-7FB4-4F32-9149-07874A640C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5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203120"/>
            <a:ext cx="8226360" cy="297972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B6064-0468-498A-A8FF-32D51E3D6B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5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203120"/>
            <a:ext cx="4014360" cy="297972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2440" y="1203120"/>
            <a:ext cx="4014360" cy="297972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71E78-1ED9-4746-8059-F183D2D0B6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5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32D3A-B3DE-4F77-8928-0A0595013E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1582200"/>
            <a:ext cx="7769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CAB63-21BD-4DD2-8E40-8D857A606D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5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203120"/>
            <a:ext cx="4014360" cy="14212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440" y="1203120"/>
            <a:ext cx="4014360" cy="297972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2759760"/>
            <a:ext cx="4014360" cy="14212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282D2-3B29-45FA-A655-12C06CB090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5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03120"/>
            <a:ext cx="4014360" cy="297972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440" y="1203120"/>
            <a:ext cx="4014360" cy="14212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2440" y="2759760"/>
            <a:ext cx="4014360" cy="14212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72CC6-8663-425E-A4CC-B8610FC4FA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5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03120"/>
            <a:ext cx="4014360" cy="14212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1203120"/>
            <a:ext cx="4014360" cy="14212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2759760"/>
            <a:ext cx="8226360" cy="14212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D5EDF-25A8-4ED8-9002-7E4C3D26A8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5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56120" y="4749480"/>
            <a:ext cx="544680" cy="390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5221A-8461-4C03-AA5C-6C56F3656492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203120"/>
            <a:ext cx="8226360" cy="297972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Arial"/>
                <a:ea typeface="Arial"/>
              </a:rPr>
              <a:t>Tabla del 7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(1)</a:t>
            </a: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96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Extendida con deci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 X 0,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 X 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 X 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 X 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 X 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 X 0,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 X 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0 X 0,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0 X 0,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0 X 0,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0 X 0,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0 X 0,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0 X 0,02 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0 X 0,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0 X 0,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0 X 0,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 X 0,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0 X 0,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 X 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 X 0,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 X 0,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 X 0,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 X 0,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 X 0,0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 X 0,0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 X 0,0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 X 0,0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 X 0,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 X 0,0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3 X 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 X 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5 X 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 X 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 X 0,0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 X 0,0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 X 0,0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 X 0,0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3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 X 0,0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 X 0,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7 X 0,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7 X 0,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7 X 0,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3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7 X 0,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1 X 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 X 0,007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7 X 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 X 0,00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3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 X 0,00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